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5.wmf" ContentType="image/x-wmf"/>
  <Override PartName="/ppt/media/image1.jpeg" ContentType="image/jpeg"/>
  <Override PartName="/ppt/media/image2.wmf" ContentType="image/x-wmf"/>
  <Override PartName="/ppt/media/image3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85F5D-D0B2-43D2-A316-B623BFA6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4C72D-718A-450D-BCDF-AA438889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068F1-86C8-4481-A669-3927D570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8EA6B-15F6-4172-BADC-91417609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F5C73-A70E-47B2-A011-6916B008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DF71A-0BB7-40B2-8436-5BB9535A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397F4-3A34-4DD2-AD7C-ECF6CD72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27D1D-2B20-4019-A6A6-1AC05074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D3599-87F5-4E28-8452-CC0B2A6A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1AD6E-75D8-4F89-A6D4-19313DF4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42704-6660-4795-B080-A6B4DDA5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DCC52-16DA-4472-A5C6-85D15DED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18F9C-DFEC-428B-B94F-920A3428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AAA3F-D83D-4FE2-A7C0-D2571E4C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9C418-0C8E-4E6D-AC9E-F10EF36A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51C28-AE20-4D32-A084-91A39C1C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003AA-D82C-440E-88A6-712C7FEC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26478-2BA4-4119-B520-AE11D5FD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86F3C-F2C8-42CC-958E-2107327C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2B6A7-4431-47C1-974C-C9342A00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6E6C1-4956-4755-A3FF-C91C2DAB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83C6A-D14F-4361-9E9D-3077D097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28FFA-3A75-446D-A49E-23119FD2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78937-D382-4C00-AC08-1409E199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CCD7B-53A8-4509-8386-E53C706B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9E2F-F22A-4443-A7E2-EE7203C8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C1A9-E67A-4D64-B060-2B60683A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A9F4-650D-4DBE-A625-C00CCB4C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8CD3-1F35-46C3-BD2A-F8AAEEF9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269F-78EB-4FE5-A710-B181D24F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09C5-55D2-4F12-8F04-4BBA09B0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C655-D5A5-4353-B861-E94FE8D3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C4CB6-6CB6-4D69-88DF-1F7C72F2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4E2E-2FFC-4E4A-B8C5-71DB3781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AFFB-A6E7-4ADB-9280-4D5D8D48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9E62-754A-4C53-B8A5-AA94335A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CC81-C7ED-4B84-981B-51D2349EE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A879-8FDA-48F4-8D25-2941F0DF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C0170-59A3-4247-AD3F-EBBF41F2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B3F31-44E5-41DE-96CC-536C05B8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BB67D-9FC9-49AF-B251-70D639B8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BC860-0052-4125-94C8-956819C0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5FBEE-AE07-4453-8A4E-C7756960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D3FAA-EE88-495A-8BFC-BE809CD3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3B576-782C-496C-8BBB-87A631F2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F2F75-B753-4A62-9C8F-010E7505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14045-9D6E-465A-B9EE-A68DEE1A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EE1AF-03EE-4168-AE1D-2287A143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3E2C1-A979-40E8-91B3-20B6A9D8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6847E-13B6-486B-BA72-F9C622A3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7CF5C-9D14-4DB8-A35D-F84904F5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6BAF2-DA52-4A15-8422-DE16F7E5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C85BC-08F5-41A0-A985-2B30A20D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291ED-D0E3-4C22-8BAC-BC6C7A77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EC32A-33FE-442E-BAD9-48B5FF1E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83326-9A35-4752-99CE-3924BB3B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6C4AC-F590-4F06-8AC7-2392CFB4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AAA1F-243B-458F-A383-824C0897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65474-150A-49B4-8EF6-FA2DCD81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7CC93-8DBA-47F0-86F9-6E3ABE47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E3C6E-D884-4F4C-8E96-D9659550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26564-E5D1-4D02-B14F-4C433DBB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F6DFF-EE72-4002-A61B-87A591DC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F6C85-8352-4BEA-B52F-25A2AA49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56C13-8012-4E90-8BAE-4B97C2C4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E6C00-53BB-4F77-B0E9-F6348DFE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35F94-BB67-472A-894E-0F7C963C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E462F-591A-47E2-B6D6-EECD008A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E3340-17C5-49F2-AF6B-C25A0B10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561CF-567F-4E42-94D2-325729B7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31691-AB99-48F4-8B2F-25B6D8B1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16719-D00E-4996-B76D-3D7EDC3D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CC076-717A-4EEC-B84D-5E401E0A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1D155-7A08-4366-9B16-798D7DAB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F1590-2DE6-4072-A146-F792DBFF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24394-25A0-4DBB-BD85-1C660F24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96683-1A1A-48F7-B331-EE43566C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BF75A-ED88-4386-B09D-943AE1DA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6E7EB-934F-48DF-8C7F-C5857F61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BD755-F0C6-49EF-9151-5E58FC80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B57DD-136A-4900-9A87-22F1EFD3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11E2B-8B84-4B0B-AB09-5A4D71BF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8E895-0CB0-4F04-956F-AB0CAECD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A3A22-637F-40AC-A754-FFB0BC58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80F2A-7BFB-4BAD-A720-B125827A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1D89C-92A9-49F0-BDD2-4CE8605D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9D82A-B39E-4A3B-91B9-FCABE9B2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3C246-3263-4878-A578-92A97702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C364F-A9B8-4B3E-9576-40065950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FDF1B-9B97-4F51-9283-561E79D6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AC4B8-5541-411B-865E-5DD90F21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D0C8E-47C4-4BEA-A340-46A2B67B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4D15F-173D-41E6-846D-226FA389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99E36-C20C-4E0E-9891-889B3A9B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E5442-3678-49DA-943B-899E86EB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3654F-FC3C-4571-BFCB-03337495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28D30-120F-4766-BA0C-EB747F07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CAE6C-C9D0-4C02-9760-F002234F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70485-7172-4C36-AB9F-71D1B08B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15278-D150-4E31-A6A6-F6598113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79894-1A54-4D00-A582-6958C2C3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7B0CC-4023-4461-B99F-C6A79595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AE3F4-6682-4BD9-8755-EE3A299D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FF153-69E8-43B5-A844-0474E1DF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6C092-9D8B-4BDD-92D6-35C2A4D4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15DC4-4821-40D7-8788-254071E8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C8A0A-00C8-4DB6-879A-45848790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14E8A-BE75-4110-A122-8B3C215B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B10A3-D1B9-4244-B74E-80C35B37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56497-8B95-407B-A2F0-669642D6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D1391-1839-47DB-B55A-281C7C79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83A3E-8FF6-4991-9F8F-95CDDCE0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5E444-032A-405B-B0C7-AB8A1FB0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53A46-23D9-4C6D-859D-E93FDED0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5723F-8A60-4AEF-AADA-22EB1B05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3E0BE-EAE5-4655-A833-190F2BE3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557E1-CA9C-4DB2-86B9-69A15D27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34C30-02F4-466C-A457-53BF8CA9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84E52-CB72-408D-907C-F2467B55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9918D-597B-43D4-B2EA-800085A6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09.xml"/><Relationship Id="rId32" Type="http://schemas.openxmlformats.org/officeDocument/2006/relationships/slideLayout" Target="../slideLayouts/slideLayout110.xml"/><Relationship Id="rId33" Type="http://schemas.openxmlformats.org/officeDocument/2006/relationships/slideLayout" Target="../slideLayouts/slideLayout111.xml"/><Relationship Id="rId34" Type="http://schemas.openxmlformats.org/officeDocument/2006/relationships/slideLayout" Target="../slideLayouts/slideLayout112.xml"/><Relationship Id="rId35" Type="http://schemas.openxmlformats.org/officeDocument/2006/relationships/slideLayout" Target="../slideLayouts/slideLayout113.xml"/><Relationship Id="rId36" Type="http://schemas.openxmlformats.org/officeDocument/2006/relationships/slideLayout" Target="../slideLayouts/slideLayout114.xml"/><Relationship Id="rId37" Type="http://schemas.openxmlformats.org/officeDocument/2006/relationships/slideLayout" Target="../slideLayouts/slideLayout115.xml"/><Relationship Id="rId38" Type="http://schemas.openxmlformats.org/officeDocument/2006/relationships/slideLayout" Target="../slideLayouts/slideLayout116.xml"/><Relationship Id="rId39" Type="http://schemas.openxmlformats.org/officeDocument/2006/relationships/slideLayout" Target="../slideLayouts/slideLayout117.xml"/><Relationship Id="rId40" Type="http://schemas.openxmlformats.org/officeDocument/2006/relationships/slideLayout" Target="../slideLayouts/slideLayout118.xml"/><Relationship Id="rId41" Type="http://schemas.openxmlformats.org/officeDocument/2006/relationships/slideLayout" Target="../slideLayouts/slideLayout119.xml"/><Relationship Id="rId42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B40E-F7DA-4456-98B8-7FE9821AC54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750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754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755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56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757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9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6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73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7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93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50DB-0206-44C6-9D9B-A277E38C118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1"/>
    <p:sldLayoutId id="2147483767" r:id="rId32"/>
    <p:sldLayoutId id="2147483768" r:id="rId33"/>
    <p:sldLayoutId id="2147483769" r:id="rId34"/>
    <p:sldLayoutId id="2147483770" r:id="rId35"/>
    <p:sldLayoutId id="2147483771" r:id="rId36"/>
    <p:sldLayoutId id="2147483772" r:id="rId37"/>
    <p:sldLayoutId id="2147483773" r:id="rId38"/>
    <p:sldLayoutId id="2147483774" r:id="rId39"/>
    <p:sldLayoutId id="2147483775" r:id="rId40"/>
    <p:sldLayoutId id="2147483776" r:id="rId41"/>
    <p:sldLayoutId id="2147483777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7035-AA97-434D-AF05-AA160D4229A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7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8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1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4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41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4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6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9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F824-6221-40CB-8019-221C560AF2F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0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0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08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5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10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11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0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21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EB43-A709-4AE2-8CD2-13ADD318517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76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385D-609E-4524-8008-613545F19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26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88CD-E6B2-4D9F-A858-C82C65C95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F083-BEB4-42F4-BF56-7B4024C6DD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5F7D-37BA-4D0E-8105-BD64064032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5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58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59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60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61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63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6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77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7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97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3402-BB2E-40C2-BF63-0A5D36232A0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atalogo De Rop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 Nick Riordan y Jared O'Bri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 Primavera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24382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itlin lleva un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amiset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n mangas 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antelones cort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mbinado y muchos col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1674720" cy="237168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2"/>
          <a:stretch/>
        </p:blipFill>
        <p:spPr>
          <a:xfrm rot="20457000">
            <a:off x="6705360" y="1371600"/>
            <a:ext cx="1990440" cy="281952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 rot="7952400">
            <a:off x="4690800" y="3906720"/>
            <a:ext cx="45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638680" y="4638600"/>
            <a:ext cx="15242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lejandra lleva la falda negra y blanca. Tambien lleva la camiseta  con muchos colores y una pulsera de muchos colores. Tambien lleva  un collar azu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Verano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 rot="1351800">
            <a:off x="2496960" y="1530360"/>
            <a:ext cx="1830600" cy="259092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2666880" y="16765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791320" y="1600200"/>
            <a:ext cx="2590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a lleva un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camiset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in mang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con muchos colores, 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pantalones corto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de blue jeans. Tambi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é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 lleva muchas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pulsera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 muchos col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2"/>
          <a:stretch/>
        </p:blipFill>
        <p:spPr>
          <a:xfrm rot="19816800">
            <a:off x="6400440" y="3962520"/>
            <a:ext cx="1728720" cy="259056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2286000" y="4952880"/>
            <a:ext cx="358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ose lleva el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traj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negro y un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corbat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negra. Tambien lleva el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cintur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ó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negro y un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camis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blanca. Tambien lleva los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aret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negr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l Invier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9" name="" descr="Wet Seal Outerwear"/>
          <p:cNvPicPr/>
          <p:nvPr/>
        </p:nvPicPr>
        <p:blipFill>
          <a:blip r:embed="rId2"/>
          <a:stretch/>
        </p:blipFill>
        <p:spPr>
          <a:xfrm>
            <a:off x="228600" y="1828800"/>
            <a:ext cx="1927080" cy="335268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2514600" y="198108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ulia lleva l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bufand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negra 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camiseta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ojo. Tambien lleva el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uete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lanco y neg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3"/>
          <a:stretch/>
        </p:blipFill>
        <p:spPr>
          <a:xfrm>
            <a:off x="6248520" y="1295280"/>
            <a:ext cx="2087280" cy="270684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6553080" y="43434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rolina lleva l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pijam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rosada y Los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zapatill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muchos col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 rot="1551000">
            <a:off x="228240" y="2361960"/>
            <a:ext cx="1828800" cy="1724040"/>
          </a:xfrm>
          <a:prstGeom prst="rect">
            <a:avLst/>
          </a:prstGeom>
          <a:ln w="0">
            <a:noFill/>
          </a:ln>
        </p:spPr>
      </p:pic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 rot="19725600">
            <a:off x="7086600" y="2057040"/>
            <a:ext cx="1584360" cy="182880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3"/>
          <a:stretch/>
        </p:blipFill>
        <p:spPr>
          <a:xfrm rot="21210600">
            <a:off x="3657600" y="5029200"/>
            <a:ext cx="1827360" cy="146052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152280" y="5029200"/>
            <a:ext cx="16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Tahoma"/>
              </a:rPr>
              <a:t>Elvis lleva las </a:t>
            </a:r>
            <a:r>
              <a:rPr b="0" lang="en-US" sz="1800" spc="-1" strike="noStrike" u="sng">
                <a:solidFill>
                  <a:srgbClr val="2f1311"/>
                </a:solidFill>
                <a:uFillTx/>
                <a:latin typeface="Tahoma"/>
              </a:rPr>
              <a:t>gafas de sol</a:t>
            </a:r>
            <a:r>
              <a:rPr b="0" lang="en-US" sz="1800" spc="-1" strike="noStrike">
                <a:solidFill>
                  <a:srgbClr val="2f1311"/>
                </a:solidFill>
                <a:latin typeface="Tahoma"/>
              </a:rPr>
              <a:t> blancas y los </a:t>
            </a:r>
            <a:r>
              <a:rPr b="0" lang="en-US" sz="1800" spc="-1" strike="noStrike" u="sng">
                <a:solidFill>
                  <a:srgbClr val="2f1311"/>
                </a:solidFill>
                <a:uFillTx/>
                <a:latin typeface="Tahoma"/>
              </a:rPr>
              <a:t>guantes</a:t>
            </a:r>
            <a:r>
              <a:rPr b="0" lang="en-US" sz="1800" spc="-1" strike="noStrike">
                <a:solidFill>
                  <a:srgbClr val="2f1311"/>
                </a:solidFill>
                <a:latin typeface="Tahoma"/>
              </a:rPr>
              <a:t> blan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352680" y="30481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Tahoma"/>
              </a:rPr>
              <a:t>Migeul lleva la gorra rojo y azu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934320" y="4495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Tahoma"/>
              </a:rPr>
              <a:t>Antonio lleva el sombrero moreno y roj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dios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8:15:25Z</dcterms:created>
  <dc:creator>riordannic</dc:creator>
  <dc:description/>
  <dc:language>en-US</dc:language>
  <cp:lastModifiedBy>riordannic</cp:lastModifiedBy>
  <dcterms:modified xsi:type="dcterms:W3CDTF">2011-12-15T12:55:10Z</dcterms:modified>
  <cp:revision>16</cp:revision>
  <dc:subject/>
  <dc:title>Slide 1</dc:title>
</cp:coreProperties>
</file>